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F84-7F41-4930-B7E6-A887B90D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657-811D-48CF-9CD6-ABC3023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6BC-CE08-4E2B-A5DB-38A2977F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EA0-B73B-4428-9672-5EF3CA9A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D869-8082-4D12-96A2-6D891710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BCB-7A03-4536-B6F1-339DC440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B52-4CD7-4D58-A38D-88491D3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009-37C9-4EB6-BF6C-0AD5CB6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D894-7A9A-4BF4-8773-2ECC3939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923-C18E-4E2E-961D-645DFA13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F839-45E1-4100-AB1A-F077CFE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939-1BA5-4424-BEEE-C544CBF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60B7-F7B7-4F18-ABE0-DD69ACD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E61B-5B13-4036-B7E5-DF1ED11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C018-47A7-4F5F-A9DD-6A1E3A4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3E41-EE63-426C-86AB-F5C9997A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A2B-7BDF-4FBD-898B-7C22424D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6BE-D48C-4D8E-A904-EAC8CDEC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EB6-F8F1-4D7E-92D8-D6173DE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05B-A26F-45D5-9677-BAE1FCA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5B7-972E-4CC5-A363-A7A2BEA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D3E-722D-4D7F-B7CF-1995E48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21C-AD0C-4CB0-BB74-E37D4F8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B94-5966-443C-BC2F-F52A8649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4C28-1B28-493E-930E-E22AAB1B5C65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7861-0925-44A5-8DF1-BEFC7F17C23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paradigm for teaching in the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1682640"/>
            <a:ext cx="6324480" cy="51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alibri"/>
              </a:rPr>
              <a:t>What we teach are inquiry processe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alibri"/>
              </a:rPr>
              <a:t>How we teach it is in collaboration with content-area teacher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u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Collaborate by designing lessons together using inquiry processes &amp; information technolog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Engage students in storytel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Use the library for producing and presen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Set up pathfinders for your units of stud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Encourage reading through book talks/pa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Learn how to use search tools and databa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2:36:39Z</dcterms:created>
  <dc:creator>cryman</dc:creator>
  <dc:description/>
  <dc:language>en-US</dc:language>
  <cp:lastModifiedBy>cryman</cp:lastModifiedBy>
  <dcterms:modified xsi:type="dcterms:W3CDTF">2009-08-06T21:01:05Z</dcterms:modified>
  <cp:revision>5</cp:revision>
  <dc:subject/>
  <dc:title>A new paradigm for teaching in the 21st Century</dc:title>
</cp:coreProperties>
</file>